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6E21-599D-44D7-9C64-9A13F4407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A4FC-DF50-4D12-9DB8-9F58AE505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F73E-63C8-4E57-B876-BCAF07A25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8797-5EBE-46C3-A977-FB0A1E92D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5910-545E-4A09-A7EA-D66B94368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0C50-536B-42C4-B838-3E3B7C844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6A1E-86CC-495D-8F10-25EAE44C7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A22A-3BAB-41C7-96C2-E7B6B467F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B975-2571-439D-BA50-1603C8AAF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A7C9-7E31-48AF-912D-B352D1409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94F2-FC54-4660-A515-A6082D87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B99E-8A78-4CF2-873C-C5AD47ED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3DA8A-7734-44FA-95EC-FB37FEABD5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blueplanetbiomes.org/world%20biomes.html" TargetMode="External"/><Relationship Id="rId2" Type="http://schemas.openxmlformats.org/officeDocument/2006/relationships/hyperlink" Target="http://www.ucmp.berkeley.edu/exhibits/biomes/index.php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campbellriverwhalewatching.com/images/dave_bear.jpg&amp;imgrefurl=http://www.campbellriverwhalewatching.com/grizzly.html&amp;usg=__s8uCEdtvKuoa6Hd0V4-HHwuX5vU=&amp;h=330&amp;w=400&amp;sz=44&amp;hl=en&amp;start=3&amp;zoom=1&amp;itbs=1&amp;tbnid=GDUqJoUJuHwOZM:&amp;tbnh=102&amp;tbnw=124&amp;prev=/images%3Fq%3Dbear%26hl%3Den%26safe%3Dactive%26gbv%3D2%26tbs%3Disch:1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google.com/imgres?imgurl=http://rlv.zcache.com/wild_bunny_poster-p228016730092921880tdcp_400.jpg&amp;imgrefurl=http://www.shoponline2011.com/m~c-stereo-speakers-headphones~b-11560000~f-259-43431_294299-335133.aspx&amp;usg=__lQOL0-iFbnYOD2h1snYYpwLBldI=&amp;h=400&amp;w=400&amp;sz=29&amp;hl=en&amp;start=7&amp;zoom=1&amp;itbs=1&amp;tbnid=7JSpriB1_3ybMM:&amp;tbnh=124&amp;tbnw=124&amp;prev=/images%3Fq%3Dwild%2Bbunny%26hl%3Den%26safe%3Dactive%26gbv%3D2%26tbs%3Disch:1" TargetMode="External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furcoatstore.com/images/fur-coat-12-250.jpg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auhaus 93"/>
              </a:rPr>
              <a:t>Temperate For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: Nick Jara, Shannon Dowling, &amp; Cecilia We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86200" y="304920"/>
            <a:ext cx="1676520" cy="20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average temperature in Januar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 3 types of animals that live in the temperate for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1 way that humans effect the temperate fores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 1 adaptation that the animals developed in the temperate fore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month has the most rainfal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the 2 layers of soil in the fores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s S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blueplanetbiomes.org/world biomes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ucmp.berkeley.edu/exhibits/biomes/index.php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encoe Blue Biology text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52480" y="1752480"/>
            <a:ext cx="5562720" cy="36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logy of a Temperate For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mperate forests are woodlands with full leaves.  The trees lose their foliage annually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il in the forest has two layers, a layer of humus and a layer of clay underneath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icks and streams run though the forest and water fa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 are five layers in the forest.  The tree stratum, small tree layer, shrub layer, herb layer, and then the ground lay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s covers a lot of the fores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48320" y="1371600"/>
            <a:ext cx="367488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09480" y="1752480"/>
          <a:ext cx="4267080" cy="4381560"/>
        </p:xfrm>
        <a:graphic>
          <a:graphicData uri="http://schemas.openxmlformats.org/drawingml/2006/table">
            <a:tbl>
              <a:tblPr/>
              <a:tblGrid>
                <a:gridCol w="2336760"/>
                <a:gridCol w="969840"/>
                <a:gridCol w="960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u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ru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u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te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o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e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457200" y="129528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th                             Temp.    Precip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76520" y="5335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erature and Precip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410080" y="1828800"/>
            <a:ext cx="330516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le, Birch, Oak, Elm and Ash tr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n B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pet M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L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elder R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114800" y="2590920"/>
            <a:ext cx="38098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uirr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n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ue J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n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cc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1320" y="1219320"/>
            <a:ext cx="1752480" cy="1441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57800" y="3200400"/>
            <a:ext cx="2114640" cy="2114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3124080" y="1752480"/>
            <a:ext cx="1955880" cy="24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aptations in a Temperate Fore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rrels and Birds started to make nests high in trees away from pred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mammals store up fat for hibernation for the wi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nails developed long antennae for enhanced sm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867280" y="1828800"/>
            <a:ext cx="252576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 Imp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38862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s use the trees for wood and it destroys many homes for animals/pl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lutants from man-made chemicals run off into the lakes/ri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reduce the human impact by using less paper products and using no chemicals on you lawn or gard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181480" y="2057400"/>
            <a:ext cx="266724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ercial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mans use the trees of the forests for lumber.  Also trees are used to make pap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 areas of the forest are destroyed for farml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imals that live in the temperate forest are hunted for food and also for fur for coats and accessor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648320" y="1371600"/>
            <a:ext cx="3124080" cy="2346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See full 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14800" y="4419720"/>
            <a:ext cx="19209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11:58:25Z</dcterms:created>
  <dc:creator>xpstudent</dc:creator>
  <dc:description/>
  <dc:language>en-US</dc:language>
  <cp:lastModifiedBy>xpstudent</cp:lastModifiedBy>
  <dcterms:modified xsi:type="dcterms:W3CDTF">2010-10-28T12:20:57Z</dcterms:modified>
  <cp:revision>13</cp:revision>
  <dc:subject/>
  <dc:title>Slide 1</dc:title>
</cp:coreProperties>
</file>